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0BDC1B4-4B9D-454F-B749-9F9783129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2F82C79-1FEB-4912-A358-3271C867BBD1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D258-CACF-4586-BB3E-73C360DFB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7D50-3FEF-42C1-B0B1-DE6323C7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B2AF-B28C-41B9-8D2D-C53657B04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C7F3-5573-4339-B52D-8EEB161E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7223-4DAB-4623-813A-22B169C2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6C08-91B9-462B-BBFC-5B2DD3FC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5F43-B286-4459-A4B1-254B40CD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CA9D-348C-43FD-8870-D19B8933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C787-3D03-484C-8B9C-164FC988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0DA9-8353-4DD1-9033-E6AD25D6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A445-BABB-4801-8F7D-5BC11F72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0B1F-765D-4444-9857-81AE2779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27B3-1357-41D6-9B88-D8AB7DB25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alibri"/>
              </a:rPr>
              <a:t>The Nile Basin Development Challenge: </a:t>
            </a:r>
            <a:br>
              <a:rPr sz="3200"/>
            </a:br>
            <a:r>
              <a:rPr b="0" lang="en-US" sz="3200" spc="-1" strike="noStrike">
                <a:solidFill>
                  <a:srgbClr val="009999"/>
                </a:solidFill>
                <a:latin typeface="Calibri"/>
              </a:rPr>
              <a:t>a component of  </a:t>
            </a:r>
            <a:br>
              <a:rPr sz="3200"/>
            </a:br>
            <a:r>
              <a:rPr b="0" lang="en-US" sz="3200" spc="-1" strike="noStrike">
                <a:solidFill>
                  <a:srgbClr val="009999"/>
                </a:solidFill>
                <a:latin typeface="Calibri"/>
              </a:rPr>
              <a:t>the CGIAR Challenge Program on Water and Food</a:t>
            </a:r>
            <a:br>
              <a:rPr sz="40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9999"/>
                </a:solidFill>
                <a:latin typeface="Calibri"/>
              </a:rPr>
              <a:t>Dr. Simon Langan on behalf of the NBDC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CP_Logo"/>
          <p:cNvPicPr/>
          <p:nvPr/>
        </p:nvPicPr>
        <p:blipFill>
          <a:blip r:embed="rId1"/>
          <a:stretch/>
        </p:blipFill>
        <p:spPr>
          <a:xfrm>
            <a:off x="5791320" y="5653080"/>
            <a:ext cx="2971800" cy="1031760"/>
          </a:xfrm>
          <a:prstGeom prst="rect">
            <a:avLst/>
          </a:prstGeom>
          <a:ln w="0">
            <a:noFill/>
          </a:ln>
        </p:spPr>
      </p:pic>
      <p:sp>
        <p:nvSpPr>
          <p:cNvPr id="52" name="Line 6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DSC00430"/>
          <p:cNvPicPr/>
          <p:nvPr/>
        </p:nvPicPr>
        <p:blipFill>
          <a:blip r:embed="rId2"/>
          <a:stretch/>
        </p:blipFill>
        <p:spPr>
          <a:xfrm>
            <a:off x="851040" y="2803680"/>
            <a:ext cx="1982520" cy="1571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" name="Picture 2" descr=""/>
          <p:cNvPicPr/>
          <p:nvPr/>
        </p:nvPicPr>
        <p:blipFill>
          <a:blip r:embed="rId3"/>
          <a:stretch/>
        </p:blipFill>
        <p:spPr>
          <a:xfrm>
            <a:off x="3656160" y="2867040"/>
            <a:ext cx="2019240" cy="1498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5" name="Content Placeholder 3" descr="IMG_0645.JPG"/>
          <p:cNvPicPr/>
          <p:nvPr/>
        </p:nvPicPr>
        <p:blipFill>
          <a:blip r:embed="rId4"/>
          <a:stretch/>
        </p:blipFill>
        <p:spPr>
          <a:xfrm>
            <a:off x="6437160" y="2901960"/>
            <a:ext cx="1949760" cy="146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4600" y="4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Calibri"/>
              </a:rPr>
              <a:t>Nile BDC scales and s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ovation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to bas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CP_Logo"/>
          <p:cNvPicPr/>
          <p:nvPr/>
        </p:nvPicPr>
        <p:blipFill>
          <a:blip r:embed="rId1"/>
          <a:stretch/>
        </p:blipFill>
        <p:spPr>
          <a:xfrm>
            <a:off x="5962680" y="5653080"/>
            <a:ext cx="2971800" cy="1031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4979880" y="3895560"/>
            <a:ext cx="4164120" cy="2962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358.JPG"/>
          <p:cNvPicPr/>
          <p:nvPr/>
        </p:nvPicPr>
        <p:blipFill>
          <a:blip r:embed="rId3"/>
          <a:stretch/>
        </p:blipFill>
        <p:spPr>
          <a:xfrm>
            <a:off x="3736800" y="1360440"/>
            <a:ext cx="356076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4600" y="4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Calibri"/>
              </a:rPr>
              <a:t>Nile BDC approa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innovation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engagement through digital st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RM Planning tools Wat-a-game and happy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planning proce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ing out and G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physical, social and economic data collection an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physical, social, economic and integrated model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CP_Logo"/>
          <p:cNvPicPr/>
          <p:nvPr/>
        </p:nvPicPr>
        <p:blipFill>
          <a:blip r:embed="rId1"/>
          <a:stretch/>
        </p:blipFill>
        <p:spPr>
          <a:xfrm>
            <a:off x="5962680" y="5653080"/>
            <a:ext cx="297180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Oval 3"/>
          <p:cNvSpPr/>
          <p:nvPr/>
        </p:nvSpPr>
        <p:spPr>
          <a:xfrm>
            <a:off x="1474920" y="500040"/>
            <a:ext cx="1420560" cy="140508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4"/>
          <p:cNvSpPr/>
          <p:nvPr/>
        </p:nvSpPr>
        <p:spPr>
          <a:xfrm>
            <a:off x="6248520" y="560520"/>
            <a:ext cx="1371600" cy="13446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"/>
          <p:cNvSpPr/>
          <p:nvPr/>
        </p:nvSpPr>
        <p:spPr>
          <a:xfrm>
            <a:off x="3581280" y="1981080"/>
            <a:ext cx="1676520" cy="1600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1523880" y="100188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veliho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6400800" y="87804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novation Plat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3733920" y="24382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atory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Straight Arrow Connector 12"/>
          <p:cNvCxnSpPr/>
          <p:nvPr/>
        </p:nvCxnSpPr>
        <p:spPr>
          <a:xfrm>
            <a:off x="2895480" y="1014120"/>
            <a:ext cx="3353760" cy="1080"/>
          </a:xfrm>
          <a:prstGeom prst="straightConnector1">
            <a:avLst/>
          </a:prstGeom>
          <a:ln w="572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5" name="Straight Arrow Connector 14"/>
          <p:cNvCxnSpPr/>
          <p:nvPr/>
        </p:nvCxnSpPr>
        <p:spPr>
          <a:xfrm>
            <a:off x="2557080" y="1828800"/>
            <a:ext cx="948600" cy="838800"/>
          </a:xfrm>
          <a:prstGeom prst="straightConnector1">
            <a:avLst/>
          </a:prstGeom>
          <a:ln w="572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6" name="Straight Arrow Connector 16"/>
          <p:cNvCxnSpPr>
            <a:endCxn id="129" idx="3"/>
          </p:cNvCxnSpPr>
          <p:nvPr/>
        </p:nvCxnSpPr>
        <p:spPr>
          <a:xfrm flipV="1">
            <a:off x="5334120" y="1707480"/>
            <a:ext cx="1116720" cy="959400"/>
          </a:xfrm>
          <a:prstGeom prst="straightConnector1">
            <a:avLst/>
          </a:prstGeom>
          <a:ln w="572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sp>
        <p:nvSpPr>
          <p:cNvPr id="137" name="Rounded Rectangle 17"/>
          <p:cNvSpPr/>
          <p:nvPr/>
        </p:nvSpPr>
        <p:spPr>
          <a:xfrm>
            <a:off x="1219320" y="304920"/>
            <a:ext cx="6629400" cy="3429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Straight Arrow Connector 19"/>
          <p:cNvCxnSpPr/>
          <p:nvPr/>
        </p:nvCxnSpPr>
        <p:spPr>
          <a:xfrm flipH="1">
            <a:off x="3462120" y="3733920"/>
            <a:ext cx="305280" cy="496080"/>
          </a:xfrm>
          <a:prstGeom prst="straightConnector1">
            <a:avLst/>
          </a:prstGeom>
          <a:ln w="5724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9" name="Straight Arrow Connector 21"/>
          <p:cNvCxnSpPr/>
          <p:nvPr/>
        </p:nvCxnSpPr>
        <p:spPr>
          <a:xfrm>
            <a:off x="5471640" y="3733920"/>
            <a:ext cx="320040" cy="522720"/>
          </a:xfrm>
          <a:prstGeom prst="straightConnector1">
            <a:avLst/>
          </a:prstGeom>
          <a:ln w="5724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40" name="TextBox 24"/>
          <p:cNvSpPr/>
          <p:nvPr/>
        </p:nvSpPr>
        <p:spPr>
          <a:xfrm>
            <a:off x="304920" y="4367160"/>
            <a:ext cx="4267080" cy="216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arch out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formation 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ivelihood strategies, choices, constrai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actors influencing adoption/lack of adop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rivers of landscape change (social and economic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earch/implementation processes: participation, innovation platforms et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5"/>
          <p:cNvSpPr/>
          <p:nvPr/>
        </p:nvSpPr>
        <p:spPr>
          <a:xfrm>
            <a:off x="4876920" y="4343400"/>
            <a:ext cx="3962160" cy="217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 decision making/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riefs for policy makers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essages that can be fed to national level platfor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ggestions for alternatives to current practi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iloted processes that can be used in planning and implement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1333440" y="278136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GR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"/>
          <p:cNvSpPr/>
          <p:nvPr/>
        </p:nvSpPr>
        <p:spPr>
          <a:xfrm>
            <a:off x="6248520" y="2781360"/>
            <a:ext cx="13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ING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4600" y="4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Calibri"/>
              </a:rPr>
              <a:t>Moving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f these projects and approaches have been distilled into a series of draft messages. We want to share the DRAFT messages with you and to do this I will ask my colleague Doug Merrey to talk you through the approach and mess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know they are not perfect, we would really value your honest assessment and how we can improve them and identify anything that is not right or mi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that 2 things- Cathy on gender and time-lin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CP_Logo"/>
          <p:cNvPicPr/>
          <p:nvPr/>
        </p:nvPicPr>
        <p:blipFill>
          <a:blip r:embed="rId1"/>
          <a:stretch/>
        </p:blipFill>
        <p:spPr>
          <a:xfrm>
            <a:off x="5962680" y="5653080"/>
            <a:ext cx="297180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4600" y="4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Calibri"/>
              </a:rPr>
              <a:t>Significant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ong the wall we have a timeline developed from the input of researchers from the NBD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ould ask that you help populate this with other events, such as the creation of the River Basin Authorities, shifts in policy focus or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6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CP_Logo"/>
          <p:cNvPicPr/>
          <p:nvPr/>
        </p:nvPicPr>
        <p:blipFill>
          <a:blip r:embed="rId1"/>
          <a:stretch/>
        </p:blipFill>
        <p:spPr>
          <a:xfrm>
            <a:off x="5962680" y="5653080"/>
            <a:ext cx="297180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"/>
          <p:cNvSpPr/>
          <p:nvPr/>
        </p:nvSpPr>
        <p:spPr>
          <a:xfrm>
            <a:off x="0" y="533520"/>
            <a:ext cx="9144000" cy="144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>
            <a:off x="0" y="6324480"/>
            <a:ext cx="9144000" cy="1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0" y="380880"/>
            <a:ext cx="9144000" cy="180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DSC03663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610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CP_Logo"/>
          <p:cNvPicPr/>
          <p:nvPr/>
        </p:nvPicPr>
        <p:blipFill>
          <a:blip r:embed="rId2"/>
          <a:stretch/>
        </p:blipFill>
        <p:spPr>
          <a:xfrm>
            <a:off x="5962680" y="5653080"/>
            <a:ext cx="2971800" cy="10317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8"/>
          <p:cNvSpPr/>
          <p:nvPr/>
        </p:nvSpPr>
        <p:spPr>
          <a:xfrm>
            <a:off x="1198440" y="3352680"/>
            <a:ext cx="7716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PWF aims to increase water productivity and resilience of social and ecological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rough its broad partnerships, it conducts research that leads to local impact and wider chang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4600" y="4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Calibri"/>
              </a:rPr>
              <a:t>Innovation as an evolutionary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ocial process of innovation is evolutionary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s eme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 context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al drivers unf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s get partly s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problems eme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opportunities become ap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cessful innovations lead to new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novation can be stimulated, accelerated,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facilit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CP_Logo"/>
          <p:cNvPicPr/>
          <p:nvPr/>
        </p:nvPicPr>
        <p:blipFill>
          <a:blip r:embed="rId1"/>
          <a:stretch/>
        </p:blipFill>
        <p:spPr>
          <a:xfrm>
            <a:off x="5962680" y="5653080"/>
            <a:ext cx="297180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4600" y="4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Calibri"/>
              </a:rPr>
              <a:t>Innovation as a social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 among actors of all ranks and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learn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ors come and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CP_Logo"/>
          <p:cNvPicPr/>
          <p:nvPr/>
        </p:nvPicPr>
        <p:blipFill>
          <a:blip r:embed="rId1"/>
          <a:stretch/>
        </p:blipFill>
        <p:spPr>
          <a:xfrm>
            <a:off x="5962680" y="5653080"/>
            <a:ext cx="297180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CP_Logo"/>
          <p:cNvPicPr/>
          <p:nvPr/>
        </p:nvPicPr>
        <p:blipFill>
          <a:blip r:embed="rId1"/>
          <a:stretch/>
        </p:blipFill>
        <p:spPr>
          <a:xfrm>
            <a:off x="5791320" y="5653080"/>
            <a:ext cx="2971800" cy="1031760"/>
          </a:xfrm>
          <a:prstGeom prst="rect">
            <a:avLst/>
          </a:prstGeom>
          <a:ln w="0">
            <a:noFill/>
          </a:ln>
        </p:spPr>
      </p:pic>
      <p:sp>
        <p:nvSpPr>
          <p:cNvPr id="79" name="Line 6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28600" y="2209680"/>
            <a:ext cx="8915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map"/>
          <p:cNvPicPr/>
          <p:nvPr/>
        </p:nvPicPr>
        <p:blipFill>
          <a:blip r:embed="rId2"/>
          <a:stretch/>
        </p:blipFill>
        <p:spPr>
          <a:xfrm>
            <a:off x="573120" y="851040"/>
            <a:ext cx="8153280" cy="481968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e 15"/>
          <p:cNvGrpSpPr/>
          <p:nvPr/>
        </p:nvGrpSpPr>
        <p:grpSpPr>
          <a:xfrm>
            <a:off x="2714760" y="781200"/>
            <a:ext cx="6164280" cy="3628800"/>
            <a:chOff x="2714760" y="781200"/>
            <a:chExt cx="6164280" cy="3628800"/>
          </a:xfrm>
        </p:grpSpPr>
        <p:sp>
          <p:nvSpPr>
            <p:cNvPr id="83" name="Ellipse 8"/>
            <p:cNvSpPr/>
            <p:nvPr/>
          </p:nvSpPr>
          <p:spPr>
            <a:xfrm>
              <a:off x="2714760" y="3571920"/>
              <a:ext cx="500040" cy="6429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Ellipse 9"/>
            <p:cNvSpPr/>
            <p:nvPr/>
          </p:nvSpPr>
          <p:spPr>
            <a:xfrm>
              <a:off x="6357960" y="3071880"/>
              <a:ext cx="500040" cy="6429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Ellipse 10"/>
            <p:cNvSpPr/>
            <p:nvPr/>
          </p:nvSpPr>
          <p:spPr>
            <a:xfrm>
              <a:off x="4929120" y="3100320"/>
              <a:ext cx="500040" cy="8571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Ellipse 11"/>
            <p:cNvSpPr/>
            <p:nvPr/>
          </p:nvSpPr>
          <p:spPr>
            <a:xfrm>
              <a:off x="4181400" y="3376800"/>
              <a:ext cx="428400" cy="4284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Ellipse 12"/>
            <p:cNvSpPr/>
            <p:nvPr/>
          </p:nvSpPr>
          <p:spPr>
            <a:xfrm>
              <a:off x="4991040" y="4081680"/>
              <a:ext cx="323640" cy="3283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Ellipse 13"/>
            <p:cNvSpPr/>
            <p:nvPr/>
          </p:nvSpPr>
          <p:spPr>
            <a:xfrm>
              <a:off x="5848560" y="3029040"/>
              <a:ext cx="475920" cy="5000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ZoneTexte 14"/>
            <p:cNvSpPr/>
            <p:nvPr/>
          </p:nvSpPr>
          <p:spPr>
            <a:xfrm>
              <a:off x="6169680" y="781200"/>
              <a:ext cx="2709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0000"/>
                  </a:solidFill>
                  <a:latin typeface="Gill Sans MT"/>
                </a:rPr>
                <a:t>Phase 2, </a:t>
              </a:r>
              <a:r>
                <a:rPr b="0" lang="fr-FR" sz="1600" spc="-1" strike="noStrike">
                  <a:solidFill>
                    <a:srgbClr val="ff0000"/>
                  </a:solidFill>
                  <a:latin typeface="Gill Sans MT"/>
                </a:rPr>
                <a:t>start</a:t>
              </a:r>
              <a:r>
                <a:rPr b="0" lang="fr-FR" sz="2800" spc="-1" strike="noStrike">
                  <a:solidFill>
                    <a:srgbClr val="ff0000"/>
                  </a:solidFill>
                  <a:latin typeface="Gill Sans MT"/>
                </a:rPr>
                <a:t> 200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4600" y="4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Calibri"/>
              </a:rPr>
              <a:t>Basin Development Challenges (BDC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ile –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rainwat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management in landsca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es – Benefit sharing mechanis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nges – intensification in coastal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mpopo –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rainwa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anagement and water a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kong – dams, reservoirs and livelih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ta –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rainwa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anagement and small reservoirs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CP_Logo"/>
          <p:cNvPicPr/>
          <p:nvPr/>
        </p:nvPicPr>
        <p:blipFill>
          <a:blip r:embed="rId1"/>
          <a:stretch/>
        </p:blipFill>
        <p:spPr>
          <a:xfrm>
            <a:off x="5962680" y="5653080"/>
            <a:ext cx="297180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4600" y="4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Calibri"/>
              </a:rPr>
              <a:t>Nile BDC 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ease CG staff show yoursel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hers associated directly with the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t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ug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CP_Logo"/>
          <p:cNvPicPr/>
          <p:nvPr/>
        </p:nvPicPr>
        <p:blipFill>
          <a:blip r:embed="rId1"/>
          <a:stretch/>
        </p:blipFill>
        <p:spPr>
          <a:xfrm>
            <a:off x="5962680" y="5653080"/>
            <a:ext cx="297180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4600" y="4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Calibri"/>
              </a:rPr>
              <a:t>Nile BDC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1 Learning from the past – past experiences in research on land and rainwater management, rainwater harvesting, land conservation, and livelihoods in the highlands of Ethiopi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2 Integrated rainwater management strategies – technologies, institutions and polic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3 Targeting and scaling ou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4 Assessing and anticipating consequences of innov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5 Coordination and multi-stakeholder platfor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CP_Logo"/>
          <p:cNvPicPr/>
          <p:nvPr/>
        </p:nvPicPr>
        <p:blipFill>
          <a:blip r:embed="rId1"/>
          <a:stretch/>
        </p:blipFill>
        <p:spPr>
          <a:xfrm>
            <a:off x="5962680" y="5653080"/>
            <a:ext cx="297180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4600" y="4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Calibri"/>
              </a:rPr>
              <a:t>Nile BDC foc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ousehol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ies and catch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 Nile River Ba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CP_Logo"/>
          <p:cNvPicPr/>
          <p:nvPr/>
        </p:nvPicPr>
        <p:blipFill>
          <a:blip r:embed="rId1"/>
          <a:stretch/>
        </p:blipFill>
        <p:spPr>
          <a:xfrm>
            <a:off x="5962680" y="5653080"/>
            <a:ext cx="297180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06:57:05Z</dcterms:created>
  <dc:creator>amohammed</dc:creator>
  <dc:description/>
  <dc:language>en-US</dc:language>
  <cp:lastModifiedBy>Langan, Simon (IWMI)</cp:lastModifiedBy>
  <cp:lastPrinted>2008-09-21T21:13:43Z</cp:lastPrinted>
  <dcterms:modified xsi:type="dcterms:W3CDTF">2013-02-20T05:32:33Z</dcterms:modified>
  <cp:revision>552</cp:revision>
  <dc:subject/>
  <dc:title>Slide 1</dc:title>
</cp:coreProperties>
</file>